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E9B-0C77-44AA-8C91-93844A52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FC6-1E38-4E49-B669-05671DD8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7BD81-332B-4529-8DA3-DF5BFFDE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F130F-1CE8-4A50-9646-6776D0F4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756A6-8111-4BD0-99E7-912AA233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A89B7-BA16-4DAF-ACCD-A4033171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61F88-2890-4D3C-93C5-24750ADD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7CEE5-8C78-4F00-A566-80C30B31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1DD1B-6B0E-4FD1-97D7-BE667810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62C02-1F94-4D32-B737-D68133EB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FA236-834D-4565-90AC-861B4877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31D88-448E-4575-88FF-CE521769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C55-C580-420C-BA49-47F48222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89958-DABF-4DBD-86DE-F553FB95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D3C09-6B65-4E6A-8512-43D99B5C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0728A-1BBA-49B9-8410-1C7485C2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334A3-0235-4C65-B9EE-0033314B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8D076-BB05-402C-876A-8F2FCD82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1FD3C-B6EE-4926-988D-9D16B75F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A1E37-4EEF-4820-93BD-D10164CB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7B07C-F537-475B-87A2-1BC47E7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D3450-7335-4807-A9F2-4E0A071A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A4F1F-3569-4C11-B62E-E48A6642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CC6-7FA3-46B9-888D-9262B78A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F0C2A-8950-461C-A810-7ED77B9C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60113-C276-4607-A4E2-81E80DEE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83460-8CD2-4E1A-9801-BC6B2EE5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490AD-AD9F-459A-90EC-2D2EF7E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98CD6-6929-4C47-B747-462A4EB5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CF577-66FB-4934-9CB3-180AB743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060E5-87BB-4FF3-85E3-82D90752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EFFE4-C036-400F-BF03-7E83ABA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5952A-45C9-41FC-9442-F90BDE2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77C08-92DA-4AE9-93A6-7FB99586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90CA-E986-488C-B22B-45FD0F3A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C95FC-57C4-4534-B6F6-5D4E6678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2255A-39A9-4B0E-AE58-24ED175E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99043-2BD0-41F4-8A29-0730917C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C5856-EFF8-4704-B5DC-F3C8B054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2FCEC-37E1-4C48-8CE2-0A64C9A9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92F6C-A611-43BD-96DD-4004B3E7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1F212-5275-4A4D-866E-36F2B854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A0E5B-F342-4901-856F-8701A924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8454F-358C-4DAA-9FF8-9C2A74D5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90FCA-2E1C-4D6D-832A-B0DCB0AB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012A-C8A8-49AC-A1FC-6502907B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37F03-2F21-47FC-836C-EA41B16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28461-BEC3-4D6A-8C27-AB78CA3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D09BC-9026-4244-8ED5-412B72D0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39115-3295-47DA-BDB2-1C2E8D64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C946A-D054-444A-A4B6-22D494BE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1AE6F-0E84-494C-93AE-C8214089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ADB2C-368D-4845-8CC3-5B41E97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D0103-6756-4E0B-979D-23EE35FC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1DDDD-B12B-451B-B41A-F7FA0164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1A224-9C54-4026-8CEB-8A268C29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B51D-89C6-430E-8A2C-AD31B5D4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84DA7-4B3E-4764-9DD1-24CD2EF4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CCFAF-800D-4735-8E10-5C8FF896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C96D8-BC7D-42CC-A1BD-BBFC735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5AEC6-26C1-464C-B938-5BBA9974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BB0B3-77FA-4CE4-AC0F-FC235F9D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90A2B-89EF-463A-9DF6-F1E4D4AF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714A2-2E65-4CA4-A1D8-CA63BC21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79A8C-6CCB-4E13-B851-39F7E91F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738EC-FFE2-4C3C-9B3D-67AC002B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9D603-50B4-4C79-AB56-95696750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7ABE-3A53-4A00-B435-4BABB0AD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9509F-56EA-4593-96C2-6E49BB32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9D72F-AEA7-4F4F-8D9B-32466A4E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695FA-2534-4FFD-9615-62DACC5E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A95FD-CCFC-47A4-B3B9-E88CF8C5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B356D-E006-49F0-9876-E92F6931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6BF03-BE04-4423-BFB7-CF947D8F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A3C6B-549B-4D17-9033-58D07BD0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3107E-15A6-4D08-B7FC-6BD863E0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E4156-C51C-4970-B81C-B442A408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5F94C-3C94-4FA2-918F-FFAFB447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B7AB-B027-41AC-A92A-EA49C35D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A262B-A179-4AFC-95CD-269360B3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251A8-5633-441D-8581-C9E85ADE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833CC-B8F4-47E8-A563-C167F6E4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03585-82ED-43E7-8A10-420235C1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6E13C-9F53-4981-9679-A2D47E79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652F47-864B-45DE-BB4B-E0220DDD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BFD16-0D29-4F75-B910-8F105F7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112B1-56A0-4F7B-84F2-5042BBB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A0503-5D47-4A98-80B7-8CA45991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33635-468A-4D9D-9221-287F6AB2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1BFA-C052-4499-82D1-177576D2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A577A-7639-4291-B903-4B267FDB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72A1B-44BF-4E32-B7E7-939303EF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C0E4D-101E-4382-8869-23D180FE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E14DD-C559-4806-921E-CABDD4B1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BCE6FB-1C5E-46CA-AF23-61FE66AA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0B880-54D6-4962-B151-D613156E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A5DD3-5396-4B19-8F92-F57BE7C5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D362E-1FDC-4B20-B419-2FD23B54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D33B2-773B-4E8A-9A1F-AEF0473C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44773-BE02-44B5-89E1-7EB73BC1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5A3A-A360-4932-BFD0-73CEF2B7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134AC-207A-4E63-A572-FB49E715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756F61-9C1A-4E8D-86C6-05201B06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493D2-8A58-4399-B85E-336A835E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D38AD-3433-4597-BBF7-DFE0CAFF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5BAC02-420B-4A90-A48C-34F33C99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7E07F-D9F9-4536-9377-33F96856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9CD75-88D9-4473-9F6F-7717ABB8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14FB4-DD6F-41B6-BEA3-FFE40568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F37DD-F7B1-4D00-ABBC-E64C9C32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83CF3-1F21-462F-84FE-3743E04B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6BC-1DF1-4BEF-8F08-A5AC9ECD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0AAA-C758-4A95-9494-0CCF360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E968B9-DAAF-42D7-BE75-7735831B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538FB7-C796-4256-BB0B-F0BBEAF1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4E983-1D11-4A67-8A36-05C229BE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3AD70-4208-4B8D-A471-0B0F41AD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9FD7C-1782-40CD-B3F5-445F7A79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71B3A-998B-47E8-B7DD-DFBBBE80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A7871F-9C49-41F2-BD01-DAB7E32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6B78B-77FB-4902-9B05-34E37D83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DE67EE-1C16-49D2-B296-D90AC19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88770-897F-4E55-A2F6-621E0660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9836-34E9-46CD-A3BD-293163ED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CAC15-B145-49F0-9CB7-3762CFC1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7E8BD-4206-41F1-9847-414AB83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4D59D-70E5-446B-84CD-D1B9FCBC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4FB05-D5B0-48FA-BB8B-D448467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A0D68-9EA2-40A8-948F-FBAB0A55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4899A-2519-4DF4-A0A7-9E746C9D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C8D4E-99E5-46D6-AD70-355BE475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553BD-863E-45E5-8E19-672251C9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FB7B5-66A4-46CD-BC66-2DD1A0CF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ACF17C-D927-446F-BF53-2940CBD0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0A88-3287-4F00-A592-204FB7AB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48C88-9A39-485E-9DFD-A7C0097F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F93C52-5EAF-48C5-BBEE-D1DD28AF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50D098-D290-44AB-B35F-F209180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358F5A-7FD7-4531-B6BF-7AE94733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13256-CC39-49DC-91BE-FFD00E86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53161D-5797-4FC9-A54C-6EB5C3C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75F48-233C-45C5-852D-743A89C3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97F7EA-9330-4437-B899-AD1361DC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DF3F94-10F9-4CB6-B4F5-AAF572BB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C926E1-CFE4-42C1-9821-BD6AE74B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6477-57AB-485D-8820-0CB2AF8A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41DDA-9A98-4C5F-A2A1-EC5A8E48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67BB6-E99F-4693-A771-826D9E01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2481D-A7CE-4EEC-918C-C091E27C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BCE77-F0E7-4EF0-9317-636DB04B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14037-9884-413D-8720-5ED6CADF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8801E-0711-4CBE-B713-805A4647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5B8AF7-5B30-4EF8-9748-94865C02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7BE31A-646F-4BDA-B989-B25302C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14DE2A-3054-4CD5-B7C4-70A5FD7E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D7429B-3586-48F4-81D1-45C6FDFC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7A56-7C98-401A-8DE2-6800E2CD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A5586-8DD8-4D58-94FE-7FBFD1E1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D86447-45EC-46C5-88F6-73787812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DEB41-303B-41B0-BA02-80031372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814EBF-431C-4F44-931B-8A7C9314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956FE7-5697-45BE-A5C3-32471677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383EA-CE01-47E6-8824-CE9A0F4A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720B1-C7C7-4FAA-8CD3-96065D20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864AD-388B-4F94-A93E-FEF6C7A4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FADFD7-0FAF-49E2-B81A-6044A58B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6ADE1D-8CAC-444A-84D3-91782242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6BD2-7099-4539-8DEF-7D2A3303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C498E-2ED8-478C-8910-A0135C7B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5D638-42DF-494E-BACB-D07589EC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0FBD65-A24A-4532-8E5B-6A3B2DE2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4029-FD58-4BC1-84EB-59A42ED4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42FB-1252-4A41-9930-E30927D7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3358-C1EB-4D32-98C4-0B10E377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682F-5586-4EF7-B22B-9E4375C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95A-E2F8-4868-B931-B49E3B61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5241-6E99-4C0D-A08C-567A08AB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49F3-4318-479D-A635-701471C0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4C06-0E2C-4BAD-8AA8-9302C83C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129E-7E13-4729-A629-722A611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1C91A-3749-4E9D-9A7D-D292CE18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2DE8F-11DA-49CD-942F-E303AA1B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33F3-C45D-4DBA-9F67-322E60D2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D515-06F7-468F-AA20-6881ECD0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052A-A381-4D8D-A9F4-C8F21B0E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95067-387A-4EB0-B53F-5C9140F5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A10-98D1-4D76-889E-D2C53550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265B8-A66C-4209-AA7D-E1C92BB8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858B5-3BE6-4A03-AE16-45E40F10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84C6-2A58-49DD-8724-584E9465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7A75-D962-40A9-A22E-FEE207ED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9393E-1BB6-42E0-A26D-4314EC15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E5C8-BA32-42C2-83DB-E39B0B3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474CE-ECC8-42F4-B299-903BF79B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9520C-943A-4BAB-8DB9-5BCC205E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4D613-C993-4B5C-978C-8EB00B2A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321BA-8D73-415D-A9F9-C5D29709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99C-E5EE-4564-8AD0-4DA6A03A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4176B-A4BA-4186-BF64-D93B360E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9CB4-FAB6-4A24-BAD3-28CE84E8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67967-E8A9-4285-915D-49A990B8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AE5CF-26A2-462F-89D5-10E74235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557F7-9C90-4FE9-B353-FAECF0A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AA839-DAF2-4C29-9D16-BAA92883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81FF5-AC22-4A83-8827-BF15BAFD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A9C42-3240-45F3-81FC-2959EEE8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A39AC-97C2-4DBB-9DB3-B4A979FF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A6BFE-79D2-4FC1-BCB7-D57AF886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515-1FDC-4003-8964-93611C11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A0DCB-2BFB-48D9-B883-973C0C1B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C741C-25F9-42AC-90B3-D1F7C944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67A68-BCE1-43EE-88FE-5949BBF0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19830-FD15-4B83-B5F8-27FBAAA4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5E6E9-4053-4429-9CDD-51B01718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8369-207A-4D79-98C6-2D40C0A8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FEB1-B294-44EA-B5E2-AA0F81B6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CAC8A-7405-4804-9742-58FCAAFF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B4456-05E0-4180-B5AF-A51F4278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33570-1127-498D-921A-30780FFD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D1C-9E70-417F-807A-9F7D16A2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1531-4414-4700-9D88-64FACA50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06DE3-CB7A-4B4F-B138-A8202A7D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52830-D083-4BA6-B45C-D5ABB760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1FE91-C920-4618-931A-565E81AA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E3C63-E4F3-4E0B-872E-72E11458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0F646-A7C4-4F23-822E-4EE804C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B680B-EAD3-4D85-A819-12D35F52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E5B05-E6B8-46B7-BE28-D0FF6188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58DC8-623F-485A-875B-366021F7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63F1F-1368-4AF9-A6EF-F23A775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555-4F49-4152-B9AE-4977CB5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08AAB-6DC0-4016-9FFA-E834FF0D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92CB3-3258-49C0-9D41-654C74CB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50119-30EC-4836-B4B3-935ED3E1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56E9E-3DC1-4F55-A836-E46FF0EA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3CE5B-F1FC-474D-9EBB-73BCDEA5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60CDF-7FA5-4F24-B9F8-429C13E8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464DD-C3A3-49CC-BC39-4A1851F1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36D66-DA7B-4901-9CE1-86F103D1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E367F-E676-4931-9783-7EACFC89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5C480-4E60-43E0-AA1D-B0D473B3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9EB-D2C9-4812-BE56-B0D490A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3104A-53F5-466A-87F0-D2230D89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2FEBF-5516-4FCB-9BDF-ED9631F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610CD-B217-499B-94EC-54461A2E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0208E-A06E-4995-8DC4-EE5B209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9DBD0-80BB-4507-8D53-391D10EC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03F60-9970-4C7C-8175-5848E0B5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8B1F1-937A-4A75-A3D1-03E72645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270A7-72FD-4E58-BA27-93608DF2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CF45E-1135-4C94-AC63-6824A52D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E3076-C28F-4F0E-85C1-486A9757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A661-55ED-4639-A649-F021727DC6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4E75-2E34-4E4B-BE58-D4685BB85C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A2D3-3648-440B-88E0-B73489C567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F42-D632-43FF-B832-DA6ADD7041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58F8-B872-4C01-AF65-89DF6B2651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C50E-F0AB-44E1-A82F-D4E8B44812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CDDE-8463-4064-86A7-89B028EA1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A9A0-B2E9-471E-975F-8EDBADA131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DBD3-90FE-434C-8F29-5D7177468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6FB6-91E2-4DFE-94B3-FE173C1D94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DB36-60CD-49CF-A97A-4F0839EEA5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8B40-1221-48F8-8E6A-3C6EE8B3A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B670-3684-43D4-8758-A842EC778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7FB9-389A-41D0-95B0-1E181FFBE8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D5CF-8A0C-406E-91B7-3138E6846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E1EE-A0C5-40A1-9959-7D7BE9309D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687C-DF17-411F-9112-AC125E805F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19A0-67CC-4E1E-89EA-4AF210375E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6EA6-C7E5-4ABB-82EC-22C0B3660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1792-B08C-4C5D-B386-895BDF7DAC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EF62-EB92-4090-B93E-95E34D814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1104-0D85-41C0-80B6-FC19827991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BB24-45AD-4D42-BE71-6CE77EB8E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496-D7D9-4B30-93C0-BC01853DCF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9921-6BB2-4483-9616-48B69C9DD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6F10-D5B7-42B9-A703-6E28263479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78C0-0DFE-4FCD-9039-1AE76979F3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A9E0-0E9D-4BCB-B120-92CB1159CC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A5B-BAF0-4BF8-AD9C-B433C84222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9F1B-77BC-4D5A-8527-36EEF7A09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21EC-1D44-47C7-85E4-7D7F3887E3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7A02-B6B5-4A27-8E14-0FAD9093B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3CA3-FE26-405C-A271-C9E2271599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15B2-FDE7-4C9A-A68A-DA54C2ADB0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2EB7-6C9B-433D-8843-081E7B796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B47D-E0C3-488C-9EAF-F2E070D3C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BB07-F0CB-42A8-AE20-BD37BA8C72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F917-062C-4A1D-B9CC-27B8499DB4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E34D-0B11-4BC0-BFF1-1D795DF314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BF74-DBF0-4E17-99BE-932EAE20D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952640" y="3024360"/>
            <a:ext cx="523872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69633" descr=""/>
          <p:cNvPicPr/>
          <p:nvPr/>
        </p:nvPicPr>
        <p:blipFill>
          <a:blip r:embed="rId1"/>
          <a:stretch/>
        </p:blipFill>
        <p:spPr>
          <a:xfrm>
            <a:off x="1662120" y="1542960"/>
            <a:ext cx="5819760" cy="37720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619280" y="3255840"/>
            <a:ext cx="5761080" cy="820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619280" y="4869000"/>
            <a:ext cx="576108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8609" descr=""/>
          <p:cNvPicPr/>
          <p:nvPr/>
        </p:nvPicPr>
        <p:blipFill>
          <a:blip r:embed="rId1"/>
          <a:stretch/>
        </p:blipFill>
        <p:spPr>
          <a:xfrm>
            <a:off x="223920" y="757080"/>
            <a:ext cx="8696160" cy="5696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8028000" y="263700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2987640" y="5862600"/>
            <a:ext cx="237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67585" descr=""/>
          <p:cNvPicPr/>
          <p:nvPr/>
        </p:nvPicPr>
        <p:blipFill>
          <a:blip r:embed="rId1"/>
          <a:stretch/>
        </p:blipFill>
        <p:spPr>
          <a:xfrm>
            <a:off x="266760" y="1638360"/>
            <a:ext cx="8610480" cy="3581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1692360" y="2176560"/>
            <a:ext cx="576000" cy="473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1258920" y="3948120"/>
            <a:ext cx="5400720" cy="473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4"/>
          <a:stretch/>
        </p:blipFill>
        <p:spPr>
          <a:xfrm>
            <a:off x="1258920" y="4508640"/>
            <a:ext cx="5400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66561" descr=""/>
          <p:cNvPicPr/>
          <p:nvPr/>
        </p:nvPicPr>
        <p:blipFill>
          <a:blip r:embed="rId1"/>
          <a:stretch/>
        </p:blipFill>
        <p:spPr>
          <a:xfrm>
            <a:off x="552600" y="828720"/>
            <a:ext cx="8038800" cy="55530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971640" y="1384200"/>
            <a:ext cx="5976720" cy="4730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1042920" y="2046240"/>
            <a:ext cx="5977080" cy="9511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971640" y="4667400"/>
            <a:ext cx="7561080" cy="473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1187280" y="5243400"/>
            <a:ext cx="7561440" cy="473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6"/>
          <a:stretch/>
        </p:blipFill>
        <p:spPr>
          <a:xfrm>
            <a:off x="1187280" y="5877000"/>
            <a:ext cx="75614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65537" descr=""/>
          <p:cNvPicPr/>
          <p:nvPr/>
        </p:nvPicPr>
        <p:blipFill>
          <a:blip r:embed="rId1"/>
          <a:stretch/>
        </p:blipFill>
        <p:spPr>
          <a:xfrm>
            <a:off x="233280" y="1371600"/>
            <a:ext cx="8677440" cy="41148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7632720" cy="473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7632720" cy="4730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7632720" cy="473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5"/>
          <a:stretch/>
        </p:blipFill>
        <p:spPr>
          <a:xfrm>
            <a:off x="1258920" y="4292640"/>
            <a:ext cx="7632720" cy="473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6"/>
          <a:stretch/>
        </p:blipFill>
        <p:spPr>
          <a:xfrm>
            <a:off x="1187280" y="4869000"/>
            <a:ext cx="7632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64513" descr=""/>
          <p:cNvPicPr/>
          <p:nvPr/>
        </p:nvPicPr>
        <p:blipFill>
          <a:blip r:embed="rId1"/>
          <a:stretch/>
        </p:blipFill>
        <p:spPr>
          <a:xfrm>
            <a:off x="266760" y="1600200"/>
            <a:ext cx="8610480" cy="36576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611280" y="2867040"/>
            <a:ext cx="8281800" cy="473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8282160" cy="473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8281800" cy="4730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5"/>
          <a:stretch/>
        </p:blipFill>
        <p:spPr>
          <a:xfrm>
            <a:off x="468360" y="4581360"/>
            <a:ext cx="828180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图片 63489" descr=""/>
          <p:cNvPicPr/>
          <p:nvPr/>
        </p:nvPicPr>
        <p:blipFill>
          <a:blip r:embed="rId1"/>
          <a:stretch/>
        </p:blipFill>
        <p:spPr>
          <a:xfrm>
            <a:off x="252360" y="828720"/>
            <a:ext cx="8639280" cy="55530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684360" y="4610160"/>
            <a:ext cx="8135640" cy="4730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108000" y="5243400"/>
            <a:ext cx="2448000" cy="4730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4"/>
          <a:stretch/>
        </p:blipFill>
        <p:spPr>
          <a:xfrm>
            <a:off x="2556000" y="5243400"/>
            <a:ext cx="6408720" cy="4730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5"/>
          <a:stretch/>
        </p:blipFill>
        <p:spPr>
          <a:xfrm>
            <a:off x="324000" y="5891040"/>
            <a:ext cx="244764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图片 62465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7055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图片 61441" descr=""/>
          <p:cNvPicPr/>
          <p:nvPr/>
        </p:nvPicPr>
        <p:blipFill>
          <a:blip r:embed="rId1"/>
          <a:stretch/>
        </p:blipFill>
        <p:spPr>
          <a:xfrm>
            <a:off x="347760" y="1015920"/>
            <a:ext cx="8448480" cy="50770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539640" y="1081080"/>
            <a:ext cx="5184720" cy="9795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611280" y="2133720"/>
            <a:ext cx="5184720" cy="9792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4"/>
          <a:stretch/>
        </p:blipFill>
        <p:spPr>
          <a:xfrm>
            <a:off x="324000" y="3141720"/>
            <a:ext cx="5184720" cy="9795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5"/>
          <a:stretch/>
        </p:blipFill>
        <p:spPr>
          <a:xfrm>
            <a:off x="324000" y="4221000"/>
            <a:ext cx="5184720" cy="9795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6"/>
          <a:stretch/>
        </p:blipFill>
        <p:spPr>
          <a:xfrm>
            <a:off x="611280" y="5243400"/>
            <a:ext cx="741672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666800" y="907920"/>
            <a:ext cx="5810400" cy="52578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2124000" y="3328920"/>
            <a:ext cx="1152720" cy="4618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6084720" y="3313080"/>
            <a:ext cx="1152720" cy="461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5076720" y="3889440"/>
            <a:ext cx="1511280" cy="4618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2627280" y="5618160"/>
            <a:ext cx="576360" cy="461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4932360" y="5603760"/>
            <a:ext cx="576360" cy="4622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6084720" y="5618160"/>
            <a:ext cx="64800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9410" descr=""/>
          <p:cNvPicPr/>
          <p:nvPr/>
        </p:nvPicPr>
        <p:blipFill>
          <a:blip r:embed="rId1"/>
          <a:stretch/>
        </p:blipFill>
        <p:spPr>
          <a:xfrm>
            <a:off x="1628640" y="1171440"/>
            <a:ext cx="5886720" cy="4515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4932360" y="1125360"/>
            <a:ext cx="1079640" cy="4622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6804000" y="1125360"/>
            <a:ext cx="1079640" cy="4622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1849320" y="1700280"/>
            <a:ext cx="1657440" cy="4618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3276720" y="2852640"/>
            <a:ext cx="2808000" cy="4622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3492360" y="4551480"/>
            <a:ext cx="1440000" cy="461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5076720" y="5127480"/>
            <a:ext cx="107964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8373" descr=""/>
          <p:cNvPicPr/>
          <p:nvPr/>
        </p:nvPicPr>
        <p:blipFill>
          <a:blip r:embed="rId1"/>
          <a:stretch/>
        </p:blipFill>
        <p:spPr>
          <a:xfrm>
            <a:off x="1628640" y="955800"/>
            <a:ext cx="58867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7352" descr=""/>
          <p:cNvPicPr/>
          <p:nvPr/>
        </p:nvPicPr>
        <p:blipFill>
          <a:blip r:embed="rId1"/>
          <a:stretch/>
        </p:blipFill>
        <p:spPr>
          <a:xfrm>
            <a:off x="1595520" y="1652760"/>
            <a:ext cx="5952960" cy="3552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3621240" y="1700280"/>
            <a:ext cx="4335480" cy="4618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547640" y="2305080"/>
            <a:ext cx="6337440" cy="4618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403280" y="2852640"/>
            <a:ext cx="6337440" cy="4622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1332000" y="3486240"/>
            <a:ext cx="6337080" cy="8064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1258920" y="4437000"/>
            <a:ext cx="633744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6324" descr=""/>
          <p:cNvPicPr/>
          <p:nvPr/>
        </p:nvPicPr>
        <p:blipFill>
          <a:blip r:embed="rId1"/>
          <a:stretch/>
        </p:blipFill>
        <p:spPr>
          <a:xfrm>
            <a:off x="1604880" y="1023840"/>
            <a:ext cx="5934240" cy="48103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3635280" y="5070600"/>
            <a:ext cx="56196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5300" descr=""/>
          <p:cNvPicPr/>
          <p:nvPr/>
        </p:nvPicPr>
        <p:blipFill>
          <a:blip r:embed="rId1"/>
          <a:stretch/>
        </p:blipFill>
        <p:spPr>
          <a:xfrm>
            <a:off x="247680" y="743040"/>
            <a:ext cx="8648640" cy="5371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244000" y="2205000"/>
            <a:ext cx="488880" cy="4618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8186760" y="3500280"/>
            <a:ext cx="488880" cy="4622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395280" y="5530680"/>
            <a:ext cx="3240000" cy="4622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5003640" y="5516640"/>
            <a:ext cx="324036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4276" descr=""/>
          <p:cNvPicPr/>
          <p:nvPr/>
        </p:nvPicPr>
        <p:blipFill>
          <a:blip r:embed="rId1"/>
          <a:stretch/>
        </p:blipFill>
        <p:spPr>
          <a:xfrm>
            <a:off x="185760" y="1452600"/>
            <a:ext cx="8772480" cy="39528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3745080" cy="4622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8244000" y="3429000"/>
            <a:ext cx="417240" cy="343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388764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52231" descr=""/>
          <p:cNvPicPr/>
          <p:nvPr/>
        </p:nvPicPr>
        <p:blipFill>
          <a:blip r:embed="rId1"/>
          <a:stretch/>
        </p:blipFill>
        <p:spPr>
          <a:xfrm>
            <a:off x="237960" y="1857240"/>
            <a:ext cx="8668080" cy="31435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8258040" y="2449440"/>
            <a:ext cx="417600" cy="343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395280" y="4494240"/>
            <a:ext cx="2881440" cy="3427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4859280" y="4479840"/>
            <a:ext cx="288144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40:0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